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BAB-E7B8-47AA-8611-D0F57324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6EC-04B3-4C31-B1AF-132560D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3E2-338D-4934-BB9B-B87720D6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B54-3CF2-4909-BABD-03E8911E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583-F2BB-4411-82B0-577950A9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BDBD-6EFA-4BEF-BA92-7D7FF45E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59A6-5B33-4BAD-9611-9BFF9D00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E0C8-0C76-425F-86C4-4992015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87B-8371-4207-B8F9-D890B20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B4B-B65C-4492-A405-7213568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C15B-0237-4AB8-B358-2DCAC8D8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971-ABE1-402B-B953-11812B6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248-A7EC-4A4B-8F0D-E466CD5D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86D-E483-463B-BE33-47890D9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18AC-22B0-484C-AFDC-DDD10BB0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881-E4B7-4DBC-87E7-D5DE76B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60E9-4CEE-497E-A861-145901B9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367-9118-4457-871C-D799E02C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3D6-F63C-4B38-AD19-CEE4D955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95D-97E7-46E4-880E-13FFA185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005-5F0F-4D5B-9366-2EDAD5C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244-6369-438C-B953-49573A6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4CC-6082-4F1D-A9EB-695DD83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519-C1EE-4F39-9EC7-E37E86F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08440" indent="-221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51960" indent="-2214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958-DBC0-48F0-8685-EDAC99C01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410-3120-48B0-B5B6-A519AFB30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9092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’s 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verage attention span over the age of 15 is 7 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752480"/>
            <a:ext cx="69339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vement while learning increases myeli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vement is the only thing that unites al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rain levels and integrates the right and lef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emispheres of young learners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r thi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ason many young children (and olde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inesthetic learners) must move to learn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752480"/>
            <a:ext cx="693396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munication between hemispheres begi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hen a child is about five years old, becom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re effective around seven (when a child ca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al with the abstract)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brain is fully communicating about age 9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0 for girls and puberty for boys. Until thes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turation points, most children are better o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ing movement whenever possible t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ement learning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98108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se of simile gives the brain a place to hoo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 least three repetitions are necessary to rec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tition increases the thickness of myelin o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x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371600"/>
            <a:ext cx="72388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ron 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erson doing the most talking in the classroom is doing the most dendrite growing. 95 percent of what we learn, we learn by tal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re we move, the more we grow dendrites. Procedural memory is the strongest memory system (driving a car, riding a bike, etc.). Over 94% of what is taught in school is not taught through process memory, but through semantic mem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488960"/>
            <a:ext cx="72388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ron Facts co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 loves a challen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 loves patterns. It makes connections rapidly and dendrite growth is powerfully stimulated by metaphor, simile, and ana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nking positively also stimulates dendrite growth. When confronted with fear, stress, and anger, blood leaves frontal lobe and goes to feet and hand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6668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loser you get your students to real life the more their brains re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66688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effective teaching strategy is to encourage peer teaching. Students recall information and have the opportunity to speak about it 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971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macy/Recency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otional Intelligence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371600"/>
            <a:ext cx="883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in brain-based learning suggests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otional health is fundamental to eff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emotional ingredients for learning ar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cooper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iosity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y to communic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otional Intelligence has proven a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or of future success than traditiona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the GPA, IQ, and standardized test sc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otional Intelligence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75248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 people are more likely to retain inform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ffectively than dissatisfied peop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one's Emotional Intelligence has a lifelo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arents and educators, alarmed by increa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s of conflict in young schoolchildren--from 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steem to early drug and alcohol use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, are focusing on teaching the skil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for Emotional Intellig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051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ers have 18 seconds to grab a child's interest. Actually, every individual has 18 seconds, maximum, to gain anyone's attention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ormal adult brain takes 18 seconds to decide whether to keep or drop input, approximately enough time to hear one sentence from beginning to en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9051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in Compatible Class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ite down five things you have learned thus f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Now go around the room and find and find five more (only one from each pers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518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133720"/>
            <a:ext cx="761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’s 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llions of brain cells or neurons construct modules and subsystems that operate synergistically in patterned ways to create five major learning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ocess begins with rapid cell development in ut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7432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rons develop at the rate of 50,000 to 100,000 per second during embryonic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than 70,000 neurons can fit onto the head of a p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4382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 the brain develops before birth and during the first year of life neurons migrate to their genetically determined lo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ing this time about half the brain cells die, apparently because their developmental work is complete or they are not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41600"/>
            <a:ext cx="74678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ually, each neuron loosely connects with other neurons by way of tiny spaces called 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rons connect at incredible speeds and change their connections rapidly. A single neuron may make over 200,000 connections at any one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ientists now believe it is the activity occurring in the tiny spaces between neurons that produces conscious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3225240" y="2743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in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9116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889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one Sans ITC TT-Bold"/>
              </a:rPr>
              <a:t>Science Education Pedagogy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133720"/>
            <a:ext cx="815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 weighs just under 1.4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has a right and left hemi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has a corpus callosum, a thick connecting tissu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ween the two hemisphe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heath of myelin covering the axons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rain cells that thickens as activitie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re myelin on an axon, the faster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process or ability to recal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5:49:06Z</dcterms:created>
  <dc:creator>Gail Scowcroft</dc:creator>
  <dc:description/>
  <dc:language>en-US</dc:language>
  <cp:lastModifiedBy>Gail/Scowcroft</cp:lastModifiedBy>
  <dcterms:modified xsi:type="dcterms:W3CDTF">2006-06-21T02:08:56Z</dcterms:modified>
  <cp:revision>16</cp:revision>
  <dc:subject/>
  <dc:title>PowerPoint Presentation</dc:title>
</cp:coreProperties>
</file>