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E938A-F878-4D62-89BE-2D36B044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110F6-789A-49B9-902C-4657FF11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C39A6-48FE-434B-A4F1-BD6D2053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8616-A294-455C-AC2D-77D7EBF7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11FA2-0C15-4825-B948-92BF9B295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4"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EFBA5-E4F8-46AA-A633-7FBE79342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8489E-7B60-4CC7-BCEC-EC70EA71E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9"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0FC0E-A002-4B2F-A33F-CD2A354B6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C77D8-C948-4613-BA61-64A0FA22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28598-4983-436E-A7A4-70A87556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4"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5"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561E6-7A9C-49C8-96AE-8BDA64E0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B07F1-EB8A-4656-96B5-9493DE57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7"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8"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9"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D58E7-58C4-4E55-9162-84D8B4F49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2"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3"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CEAAD-1766-493C-9D34-7518DCBE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5"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6"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D5D35-B140-4C59-8D93-63551CA38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8"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0"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1"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A7D59-FAAD-4FEE-9E23-AFD950120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3"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4"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5"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6"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467E8-C0ED-4F5A-BE4A-6862A8A5F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E5672-EC8A-4306-896D-1F843461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5732B-BE1D-4B0D-9524-6F7F214F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B7F29-23AE-49BC-BC80-05408820F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016D-8AEE-4BFF-8D9F-B611A39F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E4E2-72CA-40AE-8D7A-0229371B9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25AB-92AF-4D8B-9865-3F885FB15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B6A0-7AA7-4B52-8CCB-ACF36C54C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3180-E820-4438-A8B0-5A56735287C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3771-61C9-4857-94B4-31D81D727527}"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00" name=""/>
          <p:cNvSpPr/>
          <p:nvPr/>
        </p:nvSpPr>
        <p:spPr>
          <a:xfrm>
            <a:off x="457200" y="1676520"/>
            <a:ext cx="8077320" cy="460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ase Study of Scientific Inquir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luga Whales in the St. Lawrence Rive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rpose:</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satisfy the Understandings About Scientific Inquiry  from Content Standard A of the National Science Education Standards through a case study of scientific resear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develop a deeper understanding of the nature of science from a scientists perspecti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19" name=""/>
          <p:cNvSpPr/>
          <p:nvPr/>
        </p:nvSpPr>
        <p:spPr>
          <a:xfrm>
            <a:off x="685800" y="2666880"/>
            <a:ext cx="8077320" cy="222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does the investigation of the beluga whales illustrate the scientific inquiry process?</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21" name=""/>
          <p:cNvSpPr/>
          <p:nvPr/>
        </p:nvSpPr>
        <p:spPr>
          <a:xfrm>
            <a:off x="0" y="838080"/>
            <a:ext cx="9144000" cy="5760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doe the investigation of the beluga whales illustrate the scientific inquiry process?</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fferent kinds of questions suggest different kinds of scientific investigations.</a:t>
            </a: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scientific knowledge and understanding guide scientific investigations.</a:t>
            </a: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thematics is important in all aspects of scientific inquiry.</a:t>
            </a:r>
            <a:endParaRPr b="0" lang="en-US" sz="28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echnology used to gather data enhances accuracy and allows scientists to analyze results of investigations.</a:t>
            </a:r>
            <a:endParaRPr b="0" lang="en-US" sz="2800" spc="-1" strike="noStrike">
              <a:solidFill>
                <a:srgbClr val="ffffff"/>
              </a:solidFill>
              <a:latin typeface="Times New Roman"/>
            </a:endParaRPr>
          </a:p>
          <a:p>
            <a:pPr marL="457200" indent="-4572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23" name=""/>
          <p:cNvSpPr/>
          <p:nvPr/>
        </p:nvSpPr>
        <p:spPr>
          <a:xfrm>
            <a:off x="533520" y="1295280"/>
            <a:ext cx="8610480" cy="3933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Scientific explanations emphasize evidence, have logically consistent arguments, and use scientific principles, models, and theories.</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Science advances through legitimate skepticism.</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Scientific investigations sometimes result in new ideas and phenomena for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25" name=""/>
          <p:cNvSpPr/>
          <p:nvPr/>
        </p:nvSpPr>
        <p:spPr>
          <a:xfrm>
            <a:off x="1295280" y="1676520"/>
            <a:ext cx="6875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did I learn about inquiry from this experienc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science content did I learn for this experi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27" name=""/>
          <p:cNvSpPr/>
          <p:nvPr/>
        </p:nvSpPr>
        <p:spPr>
          <a:xfrm>
            <a:off x="1066680" y="2286000"/>
            <a:ext cx="72392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ience as inquiry can take many forms. Just as scientists can learn from one another through their published work, science educators can learn about the nature of science by studying the work of scienti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02" name=""/>
          <p:cNvSpPr/>
          <p:nvPr/>
        </p:nvSpPr>
        <p:spPr>
          <a:xfrm>
            <a:off x="990720" y="1981080"/>
            <a:ext cx="69498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 studies cause learners to  reflect upon the nature of scienc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ading about and analyzing the work of scientists is one way to experience science as inquir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04" name=""/>
          <p:cNvSpPr/>
          <p:nvPr/>
        </p:nvSpPr>
        <p:spPr>
          <a:xfrm>
            <a:off x="1066680" y="1523880"/>
            <a:ext cx="7239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rough a case study format you will analyze an actual scientific inquiry that investigates the ques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y has there been no increase in the beluga whale population in the St. Lawrence River in the last 50 year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06" name=""/>
          <p:cNvSpPr/>
          <p:nvPr/>
        </p:nvSpPr>
        <p:spPr>
          <a:xfrm>
            <a:off x="609480" y="167652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07" name=""/>
          <p:cNvSpPr/>
          <p:nvPr/>
        </p:nvSpPr>
        <p:spPr>
          <a:xfrm>
            <a:off x="1127160" y="1736640"/>
            <a:ext cx="656892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at your maps, determine where you think scientists might find whales to study.</a:t>
            </a: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a circle where you think whales can be found.</a:t>
            </a: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back, list three things that a scientist might study about the whales in these locations.</a:t>
            </a: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09" name=""/>
          <p:cNvSpPr/>
          <p:nvPr/>
        </p:nvSpPr>
        <p:spPr>
          <a:xfrm>
            <a:off x="1066680" y="2438280"/>
            <a:ext cx="6950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ientists in this case study are investigating populations of beluga whal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ok back at your map and see if you can determine where belugas might l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11" name=""/>
          <p:cNvSpPr/>
          <p:nvPr/>
        </p:nvSpPr>
        <p:spPr>
          <a:xfrm>
            <a:off x="914400" y="1736640"/>
            <a:ext cx="73152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age On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rite a team respons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y do  you think the number of whales has not increas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the question that would best guide a scientific investigation about why the population of whales does not incre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13" name=""/>
          <p:cNvSpPr/>
          <p:nvPr/>
        </p:nvSpPr>
        <p:spPr>
          <a:xfrm>
            <a:off x="0" y="838080"/>
            <a:ext cx="9144000" cy="58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age Tw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d upon your understanding, were the original investigations adequate? Why or why no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d the scientists use appropriate tools and techniques to gather, analyze, and interpret data? How do you know?</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evidence did the scientists use to develop an explanation for the state of the beluga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would be the best approach to design and conduct a scientific investigation that would demonstrate a cause and effect relationshi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15" name=""/>
          <p:cNvSpPr/>
          <p:nvPr/>
        </p:nvSpPr>
        <p:spPr>
          <a:xfrm>
            <a:off x="0" y="838080"/>
            <a:ext cx="914400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age Thre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cientists proposed an  answer to the original question - What explains the lack of increase in the beluga populatio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0"/>
            <a:ext cx="9144000" cy="5814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quiry Process</a:t>
            </a:r>
            <a:endParaRPr b="0" lang="en-US" sz="3200" spc="-1" strike="noStrike">
              <a:solidFill>
                <a:srgbClr val="ffffff"/>
              </a:solidFill>
              <a:latin typeface="Times New Roman"/>
            </a:endParaRPr>
          </a:p>
        </p:txBody>
      </p:sp>
      <p:sp>
        <p:nvSpPr>
          <p:cNvPr id="117" name=""/>
          <p:cNvSpPr/>
          <p:nvPr/>
        </p:nvSpPr>
        <p:spPr>
          <a:xfrm>
            <a:off x="0" y="838080"/>
            <a:ext cx="914400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age Thre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cientists proposed an answer to the original question - What explains the lack of increase in the beluga populatio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 the evidence indicates that the belugas have failed to increase in numbers due to long tern exposure to a complex mixture of toxic chemica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1T10:18:11Z</dcterms:created>
  <dc:creator>Gail Scowcroft</dc:creator>
  <dc:description/>
  <dc:language>en-US</dc:language>
  <cp:lastModifiedBy>URI OMP</cp:lastModifiedBy>
  <dcterms:modified xsi:type="dcterms:W3CDTF">2006-06-21T14:01:47Z</dcterms:modified>
  <cp:revision>7</cp:revision>
  <dc:subject/>
  <dc:title>PowerPoint Presentation</dc:title>
</cp:coreProperties>
</file>